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251-8857-4491-9575-563181E9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AFA-2330-45BA-80CE-402F6ACF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A7A-C2C7-45DF-B94C-3C931028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CDE-14DF-4E17-ADB5-3A0A411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3AA-103F-46F6-A270-B806F167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4257-EF91-4FE2-A90C-96BE02B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39E-B359-4556-9AB7-0F783E1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638A-47FA-4D81-A634-728466FD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FE8-7A49-4A3F-8857-5C1C71F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E12-590C-46AF-9D7E-CCE2240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17DB-1759-4866-BB73-B8A143E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A9A-92A9-47B3-A330-EC1A08E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48B-C1DD-4A24-A416-731B937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A1D-D834-490F-8E15-48B15F7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17B9-5BCD-47B7-8E69-4684E3AD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5296-1B5D-4E28-93AB-59743C8F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D30-8C0B-4062-A5F0-C9724668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077-F333-42A4-8812-3100A7B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9F3-90B1-486F-BC0E-86271C8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8B5-3FC3-4B7C-A73E-9AA37D0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054-8525-4AD7-8CF5-E643D349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D3B-DDE8-4072-B694-14E09C5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77A-5684-4DED-97A4-910D47F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4A0-DAEC-4E70-BBD1-2EFA141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D8F-CE4D-4885-B298-B619612B1667}" type="slidenum"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551-B482-4DA6-826D-453709B72DB0}" type="slidenum">
              <a:rPr b="0" lang="lt-LT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6000" spc="-1" strike="noStrike">
                <a:solidFill>
                  <a:srgbClr val="000000"/>
                </a:solidFill>
                <a:latin typeface="Times New Roman"/>
              </a:rPr>
              <a:t>Matematika Tau plius</a:t>
            </a:r>
            <a:br>
              <a:rPr sz="6000"/>
            </a:br>
            <a:r>
              <a:rPr b="1" lang="lt-LT" sz="6000" spc="-1" strike="noStrike">
                <a:solidFill>
                  <a:srgbClr val="000000"/>
                </a:solidFill>
                <a:latin typeface="Times New Roman"/>
              </a:rPr>
              <a:t> 10 klasė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876560"/>
            <a:ext cx="51829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595900"/>
                </a:solidFill>
                <a:latin typeface="Arial"/>
              </a:rPr>
              <a:t>Turinio apžvalga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Parengė Griškabūdžio v. m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matematikos mokytoja metodininkė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595900"/>
                </a:solidFill>
                <a:latin typeface="Arial"/>
              </a:rPr>
              <a:t>Ilona Tamulienė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5715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8. Erdvinių kūnų tiesės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ir plokštum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99760" y="1905120"/>
            <a:ext cx="6653160" cy="43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1. Erdvinių kūnų tiesė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2. Erdvinių kūnų plokštu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3. Kampas tarp tiesės ir plokštumo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8.4. Kampas tarp plokštumų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9. Tikimybė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9.1. Skaičiuojame tikimyb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9.2. Tikimybių savybė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Kurso kartojim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. Skaič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2. Veiksm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3. Reiškin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 Lygty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 Nelyg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 Sistem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7. Funkcij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14680" y="1523520"/>
            <a:ext cx="3676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9. Erdviniai kūn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0. Statistik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1. Kombinatorik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8. Plokštumos figūro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2. Tikim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13. Mat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5920" y="487440"/>
            <a:ext cx="631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5959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595900"/>
                </a:solidFill>
                <a:latin typeface="Times New Roman"/>
              </a:rPr>
              <a:t>U</a:t>
            </a:r>
            <a:r>
              <a:rPr b="0" lang="lt-LT" sz="4400" spc="-1" strike="noStrike">
                <a:solidFill>
                  <a:srgbClr val="595900"/>
                </a:solidFill>
                <a:latin typeface="Times New Roman"/>
              </a:rPr>
              <a:t>ž</a:t>
            </a:r>
            <a:r>
              <a:rPr b="0" lang="en-US" sz="4400" spc="-1" strike="noStrike">
                <a:solidFill>
                  <a:srgbClr val="595900"/>
                </a:solidFill>
                <a:latin typeface="Times New Roman"/>
              </a:rPr>
              <a:t>daviny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00120" y="1676160"/>
            <a:ext cx="7491600" cy="45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Kaip ir vadovėlį, uždavinyną rengė tas pats autorių kolektyva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Todėl visi uždaviniai suderinti su nagrinėjamais vadovėlyje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Tik uždavinyne jų yra kur kas daugiau, įvairesnių ir sunkesnių. Uždavinynas orientuotas į pagrindinio ir aukštesnio lygmens mokiniu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Visi uždaviniai kruopščiai atrinkti ir pateikiami sunkėjimo tvarka. Visi jie išspręsti, o atsakymai patikrinti leidyklos specialistų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5d5d00"/>
                </a:solidFill>
                <a:latin typeface="Arial"/>
              </a:rPr>
              <a:t>Uždavinynas skirtas I pusmečiui, o mokslo metų II pusmečiui laukite pasirengimo pagrindinio ugdymo pasiekimų patikrinimui (PUPP) ir kurso kartojimui skirtos knygutės. PUPP taip pat bus skirta pagrindinio ir aukštesnio lygmens mokiniam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9144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lt-LT" sz="54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Content Placeholder 2" descr=""/>
          <p:cNvPicPr/>
          <p:nvPr/>
        </p:nvPicPr>
        <p:blipFill>
          <a:blip r:embed="rId1"/>
          <a:stretch/>
        </p:blipFill>
        <p:spPr>
          <a:xfrm>
            <a:off x="1359000" y="1427040"/>
            <a:ext cx="778500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391520" cy="937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333300"/>
                </a:solidFill>
                <a:latin typeface="Arial"/>
              </a:rPr>
              <a:t>Šiuolaikiško ir naujausių programų dvasia parengto vadovėlio autoriai – Kornelija Intienė, Vida Meškauskaitė, Regina Rudalevičienė, Albina Vilimienė ir Valdas Vanagas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33300"/>
                </a:solidFill>
                <a:latin typeface="Arial"/>
              </a:rPr>
              <a:t>„</a:t>
            </a:r>
            <a:r>
              <a:rPr b="1" lang="lt-LT" sz="2400" spc="-1" strike="noStrike">
                <a:solidFill>
                  <a:srgbClr val="333300"/>
                </a:solidFill>
                <a:latin typeface="Arial"/>
              </a:rPr>
              <a:t>Matematika Tau plius. 10 klasė“ visą komplektą sudaro: vadovėlis (I ir II dalys), skaitmeninė vadovėlio versija, pratybų sąsiuvinis (I ir II dalys), uždavinynas, pasirengimo PUPP knygelė, savarankiški ir kontroliniai darbai, mobili interaktyvi kompiuterinė knyga (MIKO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tematika Tau plius. 10 klas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1. Procenta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1 Didiname ir mažinam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2 Kiek procentų daugiau? Kiek procentų mažiau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1.3 Procentai ir kartai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616100"/>
                </a:solidFill>
                <a:latin typeface="Arial"/>
              </a:rPr>
              <a:t>1.4 Sudėtinių procentų formul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2. Trupmeniniai raidiniai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          reiškinia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31d09"/>
                </a:solidFill>
                <a:latin typeface="Arial"/>
              </a:rPr>
              <a:t>2.1 </a:t>
            </a: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Prastin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2. Sudedame ir atim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3. Dauginame ir dalijame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4. Kvadratinį trinarį skaidome dauginamaisia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595900"/>
                </a:solidFill>
                <a:latin typeface="Arial"/>
              </a:rPr>
              <a:t>2.5. Prastiname sudėtingesnes trupmenas su vienu kintamuoj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3. Trupmeninės lygty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1. Sprendžiame trupmenin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lygtis </a:t>
            </a:r>
            <a:r>
              <a:rPr b="1" i="1" lang="lt-LT" sz="3200" spc="-1" strike="noStrike">
                <a:solidFill>
                  <a:srgbClr val="333300"/>
                </a:solidFill>
                <a:latin typeface="Arial"/>
              </a:rPr>
              <a:t>f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lt-LT" sz="3200" spc="-1" strike="noStrike">
                <a:solidFill>
                  <a:srgbClr val="333300"/>
                </a:solidFill>
                <a:latin typeface="Arial"/>
              </a:rPr>
              <a:t>x</a:t>
            </a: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) = 0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2. Sprendžiame sudėtingesnes trupmenines lygti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3. Sprendžiame judėjimo uždaviniu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4. Sprendžiame darbo uždaviniu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3.5. Lygčių sistemos, kurių tik viena lygtis yra tiesin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Nelygybių sistemos, kvadratinės nelyg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1. Sprendžiame tiesinių nelygybių sistem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2. Sprendžiame dvigubąsias nelygyb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3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4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4.5. Sprendžiame kvadratines nelygybe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&lt;&gt; 0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5. Funkcij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1. Dviejų dydžių funkcinė priklausomybė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2. Funkcijų savybė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3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4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≠ 0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5. Funkcijos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y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=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²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bx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+ 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c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1" i="1" lang="lt-LT" sz="2800" spc="-1" strike="noStrike">
                <a:solidFill>
                  <a:srgbClr val="333300"/>
                </a:solidFill>
                <a:latin typeface="Arial"/>
              </a:rPr>
              <a:t>a</a:t>
            </a: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 ≠ 0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6. Braižome parabolę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5.7. Sprendžiame uždavinius, remdamiesi funkcijų grafika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 Stačiojo trikampio smailiojo kampo sinusas, kosinusas ir tangent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1. Stačiojo trikampio smailiojo kampo sinus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2. Stačiojo trikampio smailiojo kampo kosinus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3. Stačiojo trikampio smailiojo kampo tangent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4. Kaip rasti kampo dydį, žinant jo sinuso, kosinuso ar tangento reikšmę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00"/>
                </a:solidFill>
                <a:latin typeface="Arial"/>
              </a:rPr>
              <a:t>6.5. Dar kartą statieji trikampiai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7. Apskritimai, tiesės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         ir kampa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9760" y="2133360"/>
            <a:ext cx="68058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1. Centrinis kampas. Išpjov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2. Išpjovos lanko ilgis ir plota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3. Apskritimo kirstinė. Nuopjov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3300"/>
                </a:solidFill>
                <a:latin typeface="Arial"/>
              </a:rPr>
              <a:t>7.4. Apskritimo liestinė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924680" y="380880"/>
            <a:ext cx="7621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ona</dc:creator>
  <dc:description/>
  <dc:language>en-US</dc:language>
  <cp:lastModifiedBy>Ilona</cp:lastModifiedBy>
  <dcterms:modified xsi:type="dcterms:W3CDTF">2011-01-18T22:28:1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